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4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6.png" ContentType="image/png"/>
  <Override PartName="/ppt/media/image17.jpeg" ContentType="image/jpeg"/>
  <Override PartName="/ppt/media/image23.png" ContentType="image/png"/>
  <Override PartName="/ppt/media/image13.jpeg" ContentType="image/jpeg"/>
  <Override PartName="/ppt/media/image40.jpeg" ContentType="image/jpeg"/>
  <Override PartName="/ppt/media/image44.png" ContentType="image/png"/>
  <Override PartName="/ppt/media/image45.jpeg" ContentType="image/jpeg"/>
  <Override PartName="/ppt/media/image30.jpeg" ContentType="image/jpeg"/>
  <Override PartName="/ppt/media/image20.jpeg" ContentType="image/jpeg"/>
  <Override PartName="/ppt/media/image12.png" ContentType="image/pn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34.jpeg" ContentType="image/jpeg"/>
  <Override PartName="/ppt/media/image36.png" ContentType="image/png"/>
  <Override PartName="/ppt/media/image37.jpeg" ContentType="image/jpeg"/>
  <Override PartName="/ppt/media/image4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38.jpeg" ContentType="image/jpeg"/>
  <Override PartName="/ppt/media/image7.jpeg" ContentType="image/jpeg"/>
  <Override PartName="/ppt/media/image2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3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7C7E-E213-47DA-96D7-A6B9AFF7B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15F2-64D1-4661-BA99-7317F09FD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CFE0-3681-4E98-8B12-5DB057662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920B-E620-4CE4-9510-589CCFF70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5E686-9883-4D43-96A4-6F298DCE0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01A34-2FBA-4799-9409-329D8E465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B0696-49D6-4BED-87B3-907E0390B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66F84-9656-42C7-8DF9-8E39E2D8F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1780B-549B-4047-8260-F58663671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F8439-9203-4040-BEA1-7213B4459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BA364-CA05-41DF-90B7-2C532692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A4D5-7339-4C26-ADCC-95B52D160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18ED0-F5DA-423F-8522-8E084FD8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204FC-0F18-4254-82BD-1FDED330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A72D0-5BE4-407B-ABD0-D55F6DAE5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FA656-3A34-45FA-9219-3E0F592F7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2B4D6-7F57-4653-8D38-9CCB9228B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6D74-D708-4F17-8243-C90BD77E4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8E7C-94A3-4D1A-AEF3-7840D36D0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2171-7F8C-47FE-9B19-B60FFD360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032F-AAC0-48FF-972B-8C05E52F0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DC57-85D1-4D90-AEDD-145A5862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3479-9A0B-486C-BBB9-9BC3FA7E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E723-AD0A-4E0D-A5CC-20C60185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B1F6E-2C84-4452-B160-C2A775F6286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30646-6050-4957-83EE-503432E327A8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4"/>
          <p:cNvSpPr txBox="1"/>
          <p:nvPr/>
        </p:nvSpPr>
        <p:spPr>
          <a:xfrm>
            <a:off x="539640" y="2492280"/>
            <a:ext cx="81756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</a:rPr>
              <a:t>Сибирь традициями полн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«Помочи»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В случае, когда крестьянская семья не могла одна справиться с выполнением большой работы, она приглашала на помощь всех желающих. Семья заранее готовила угощение и все, что потребуется для коллективной работ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ыча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олщовая скатерть – стелилась после работы даже в бедных домах. Скатерть расстилали даже ради одной картош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язательно ели щ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ронить и не поднять кусок хлеба считалось грехом, оставлять его недоеденным, выходить из-за стола раньше времени тоже не полагалос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блюдение времени между завтраком, обедом, паужной и ужин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Вхождение в новый дом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Приметы связанные с переездом и домом в настоящее время немного утратили свою актуальность, и многие уже не помнят о традициях и обычаях наших далеких предков, связанных именно с приметами и новым дом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ыча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пускают кота в д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д входной дверью вешают подков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 порог кладут нож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входе в дом нужно бросить на пол несколько серебряных моне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ле въезда провести уборку новой квартир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метить новосель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обряды.avi" descr=""/>
          <p:cNvPicPr/>
          <p:nvPr/>
        </p:nvPicPr>
        <p:blipFill>
          <a:blip r:embed="rId1"/>
          <a:stretch/>
        </p:blipFill>
        <p:spPr>
          <a:xfrm>
            <a:off x="1176480" y="701640"/>
            <a:ext cx="6858000" cy="548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асх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Древнейший христианский праздник, главный праздник богослужебного года. Установлен в честь воскресения Иисуса Христа. В настоящее время его дата в каждый конкретный год исчисляется по лунно-солнечному календар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ыча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чиная с пасхальной ночи и последующие сорок дней (до отдания Пасхи) принято христосоваться, то есть приветствовать друг друга словами: «Христос воскресье!» — «Воистину воскресье!», при этом троекратно целуясь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асхальные ручь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асхальный огон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асхальные куличи, яйца и кроли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Городские тради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8229600" cy="430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1676520" y="2971800"/>
            <a:ext cx="4952880" cy="37148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42674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9 Мая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5345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кция «Георгиевская ленточк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родские митинг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здничные вечера посвящённые дню Побе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6"/>
          <p:cNvSpPr/>
          <p:nvPr/>
        </p:nvSpPr>
        <p:spPr>
          <a:xfrm>
            <a:off x="2514600" y="2286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0000"/>
                </a:solidFill>
                <a:latin typeface="Arial"/>
              </a:rPr>
              <a:t>Городские митинг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648320" cy="34862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"/>
          <p:cNvPicPr/>
          <p:nvPr/>
        </p:nvPicPr>
        <p:blipFill>
          <a:blip r:embed="rId2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7"/>
          <p:cNvSpPr/>
          <p:nvPr/>
        </p:nvSpPr>
        <p:spPr>
          <a:xfrm>
            <a:off x="5105520" y="144792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ествия, митинг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8" descr=""/>
          <p:cNvPicPr/>
          <p:nvPr/>
        </p:nvPicPr>
        <p:blipFill>
          <a:blip r:embed="rId3"/>
          <a:stretch/>
        </p:blipFill>
        <p:spPr>
          <a:xfrm>
            <a:off x="0" y="3446640"/>
            <a:ext cx="4724280" cy="346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0000"/>
                </a:solidFill>
                <a:latin typeface="Times New Roman"/>
              </a:rPr>
              <a:t>Церемония вручения паспортов гражданина РФ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35" name="Picture 4" descr="C:\Documents and Settings\Loner\Рабочий стол\Новая папка\in_57.JPG"/>
          <p:cNvPicPr/>
          <p:nvPr/>
        </p:nvPicPr>
        <p:blipFill>
          <a:blip r:embed="rId1"/>
          <a:stretch/>
        </p:blipFill>
        <p:spPr>
          <a:xfrm>
            <a:off x="380880" y="1752480"/>
            <a:ext cx="4038840" cy="27054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C:\Documents and Settings\Loner\Рабочий стол\Новая папка\in_58.JPG"/>
          <p:cNvPicPr/>
          <p:nvPr/>
        </p:nvPicPr>
        <p:blipFill>
          <a:blip r:embed="rId2"/>
          <a:stretch/>
        </p:blipFill>
        <p:spPr>
          <a:xfrm>
            <a:off x="4419720" y="3505320"/>
            <a:ext cx="449568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1294920"/>
            <a:ext cx="5181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0000"/>
                </a:solidFill>
                <a:latin typeface="Times New Roman"/>
              </a:rPr>
              <a:t>День призывника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0" y="3257640"/>
            <a:ext cx="4876920" cy="3600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"/>
          <p:cNvPicPr/>
          <p:nvPr/>
        </p:nvPicPr>
        <p:blipFill>
          <a:blip r:embed="rId2"/>
          <a:stretch/>
        </p:blipFill>
        <p:spPr>
          <a:xfrm>
            <a:off x="4876920" y="0"/>
            <a:ext cx="4267080" cy="3303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"/>
          <p:cNvPicPr/>
          <p:nvPr/>
        </p:nvPicPr>
        <p:blipFill>
          <a:blip r:embed="rId3"/>
          <a:stretch/>
        </p:blipFill>
        <p:spPr>
          <a:xfrm>
            <a:off x="4876920" y="3276720"/>
            <a:ext cx="426708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5840" y="42840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0000"/>
                </a:solidFill>
                <a:latin typeface="Times New Roman"/>
                <a:ea typeface="Times New Roman"/>
              </a:rPr>
              <a:t>Объединив ассоциации, возникшие у людей при слове «Сибирь» получили 5 основных блоков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828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Природно-климатические (49,9% от всех ответов): суровый климат, холод, мороз, зима, сугробы, снеговик, реки, нефть, медведи, комары, санки и д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Личностно-психологические (19%): Родина, родной край, дом, моя жизнь, романтика, тишина, сила, хорошие люди, Ф.М. Достоевский и д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Географические (13,8%) обширная территория, часть Азии, глубинка, окраина, Енисей, Красноярск, Омск и д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Исторические ( 8,9%) ссылка, тюрьма, каторга, Ермак, казаки и д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 Этнокультурные (8,4%) аборигены, русские, татары, баня, варежки, кедровые орехи, песни и д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День защитника отечеств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4572000" y="3733920"/>
            <a:ext cx="4419720" cy="2916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C:\Documents and Settings\Loner\Рабочий стол\Новая папка\21729_52606.jpg"/>
          <p:cNvPicPr/>
          <p:nvPr/>
        </p:nvPicPr>
        <p:blipFill>
          <a:blip r:embed="rId2"/>
          <a:stretch/>
        </p:blipFill>
        <p:spPr>
          <a:xfrm>
            <a:off x="380880" y="1752480"/>
            <a:ext cx="4191120" cy="31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Масленица-неделя радост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-44604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недельник- встреча маслениц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-44604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торник- весёлые заигрыши, катание на ледяных горка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-44604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реда- Лаком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-44604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етверг- разгуляй- взятие снежного город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-44604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ятница- «К тёще на блины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-44604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уббота- Золовкины посидел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-44604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скресенье- «Проводы широкой масленицы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3809880" cy="3429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C:\Documents and Settings\Loner\Рабочий стол\Новая папка\dc2f0ae675bd.jpg"/>
          <p:cNvPicPr/>
          <p:nvPr/>
        </p:nvPicPr>
        <p:blipFill>
          <a:blip r:embed="rId2"/>
          <a:stretch/>
        </p:blipFill>
        <p:spPr>
          <a:xfrm>
            <a:off x="3809880" y="0"/>
            <a:ext cx="5334120" cy="28195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2" descr="C:\Documents and Settings\Loner\Рабочий стол\Новая папка\456462.jpg"/>
          <p:cNvPicPr/>
          <p:nvPr/>
        </p:nvPicPr>
        <p:blipFill>
          <a:blip r:embed="rId3"/>
          <a:stretch/>
        </p:blipFill>
        <p:spPr>
          <a:xfrm>
            <a:off x="3809880" y="2860560"/>
            <a:ext cx="5334120" cy="39974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3" descr="C:\Documents and Settings\Loner\Рабочий стол\Новая папка\1298852292_1298803489_83230883_resize.jpg"/>
          <p:cNvPicPr/>
          <p:nvPr/>
        </p:nvPicPr>
        <p:blipFill>
          <a:blip r:embed="rId4"/>
          <a:stretch/>
        </p:blipFill>
        <p:spPr>
          <a:xfrm>
            <a:off x="0" y="3429000"/>
            <a:ext cx="380988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День город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51" name="Picture 7" descr=""/>
          <p:cNvPicPr/>
          <p:nvPr/>
        </p:nvPicPr>
        <p:blipFill>
          <a:blip r:embed="rId1"/>
          <a:stretch/>
        </p:blipFill>
        <p:spPr>
          <a:xfrm>
            <a:off x="5372280" y="1600200"/>
            <a:ext cx="3771720" cy="5029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"/>
          <p:cNvPicPr/>
          <p:nvPr/>
        </p:nvPicPr>
        <p:blipFill>
          <a:blip r:embed="rId2"/>
          <a:stretch/>
        </p:blipFill>
        <p:spPr>
          <a:xfrm>
            <a:off x="0" y="2286000"/>
            <a:ext cx="5334120" cy="355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6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"/>
          <p:cNvPicPr/>
          <p:nvPr/>
        </p:nvPicPr>
        <p:blipFill>
          <a:blip r:embed="rId3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"/>
          <p:cNvPicPr/>
          <p:nvPr/>
        </p:nvPicPr>
        <p:blipFill>
          <a:blip r:embed="rId4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Новогодние и рождественские праздники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152280" y="2286000"/>
            <a:ext cx="4267440" cy="32004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"/>
          <p:cNvPicPr/>
          <p:nvPr/>
        </p:nvPicPr>
        <p:blipFill>
          <a:blip r:embed="rId2"/>
          <a:stretch/>
        </p:blipFill>
        <p:spPr>
          <a:xfrm>
            <a:off x="5105520" y="2057400"/>
            <a:ext cx="32004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5" descr=""/>
          <p:cNvPicPr/>
          <p:nvPr/>
        </p:nvPicPr>
        <p:blipFill>
          <a:blip r:embed="rId1"/>
          <a:stretch/>
        </p:blipFill>
        <p:spPr>
          <a:xfrm>
            <a:off x="4038480" y="3029040"/>
            <a:ext cx="5105520" cy="38289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"/>
          <p:cNvPicPr/>
          <p:nvPr/>
        </p:nvPicPr>
        <p:blipFill>
          <a:blip r:embed="rId2"/>
          <a:stretch/>
        </p:blipFill>
        <p:spPr>
          <a:xfrm>
            <a:off x="4038480" y="0"/>
            <a:ext cx="5105520" cy="3124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C:\Documents and Settings\Loner\Рабочий стол\Новая папка\600684423.jpg"/>
          <p:cNvPicPr/>
          <p:nvPr/>
        </p:nvPicPr>
        <p:blipFill>
          <a:blip r:embed="rId3"/>
          <a:stretch/>
        </p:blipFill>
        <p:spPr>
          <a:xfrm>
            <a:off x="0" y="0"/>
            <a:ext cx="4038480" cy="4419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8" descr="C:\Documents and Settings\Loner\Рабочий стол\Новая папка\830652932.jpg"/>
          <p:cNvPicPr/>
          <p:nvPr/>
        </p:nvPicPr>
        <p:blipFill>
          <a:blip r:embed="rId4"/>
          <a:stretch/>
        </p:blipFill>
        <p:spPr>
          <a:xfrm>
            <a:off x="0" y="3809880"/>
            <a:ext cx="403848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День Матер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65" name="Picture 4" descr="C:\Documents and Settings\Loner\Рабочий стол\Новая папка\s6301833.jpg"/>
          <p:cNvPicPr/>
          <p:nvPr/>
        </p:nvPicPr>
        <p:blipFill>
          <a:blip r:embed="rId1"/>
          <a:stretch/>
        </p:blipFill>
        <p:spPr>
          <a:xfrm>
            <a:off x="1143000" y="1752480"/>
            <a:ext cx="6172200" cy="411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1219320"/>
            <a:ext cx="4191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Сабантуй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0" y="3481560"/>
            <a:ext cx="4800600" cy="33764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"/>
          <p:cNvPicPr/>
          <p:nvPr/>
        </p:nvPicPr>
        <p:blipFill>
          <a:blip r:embed="rId2"/>
          <a:stretch/>
        </p:blipFill>
        <p:spPr>
          <a:xfrm>
            <a:off x="4495680" y="380880"/>
            <a:ext cx="4648320" cy="3084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"/>
          <p:cNvPicPr/>
          <p:nvPr/>
        </p:nvPicPr>
        <p:blipFill>
          <a:blip r:embed="rId3"/>
          <a:stretch/>
        </p:blipFill>
        <p:spPr>
          <a:xfrm>
            <a:off x="4648320" y="3486240"/>
            <a:ext cx="4495680" cy="33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1680" y="356760"/>
            <a:ext cx="8229600" cy="74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Школьные тради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71" name="11Б.avi" descr=""/>
          <p:cNvPicPr/>
          <p:nvPr/>
        </p:nvPicPr>
        <p:blipFill>
          <a:blip r:embed="rId1"/>
          <a:stretch/>
        </p:blipFill>
        <p:spPr>
          <a:xfrm>
            <a:off x="1214280" y="1071720"/>
            <a:ext cx="68580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«Сибиряк»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0" y="1643040"/>
            <a:ext cx="91440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986 – 1988 гг. сибиряками назвали себя 15 % опрошен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994 г. – 1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 началу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X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. – 32% опрошен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2005 г. – 5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настоящее время 80% опрошенных считают себя сибиряками, т.к родились и живут в Сибири, обладают сибирским характером и любят свою малую родин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ногие на вопрос «Как бы Вы себя назвали» отвечали: «сибирячка, россиянка», «чисто русская сибирячка», «сибирский казак» и д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щественное влияние на формирование образа сибиряка оказало казачеств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Семейные тради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73" name="Picture 2" descr="D:\с диска с\Фотографии\семейная фотосессия\IMG_4912.jpg"/>
          <p:cNvPicPr/>
          <p:nvPr/>
        </p:nvPicPr>
        <p:blipFill>
          <a:blip r:embed="rId1"/>
          <a:stretch/>
        </p:blipFill>
        <p:spPr>
          <a:xfrm>
            <a:off x="1143000" y="1857240"/>
            <a:ext cx="6715080" cy="483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шей семье в этом году 20 лет. За это время у нас появилось большое количество различных традиций. Каждый праздник мы отмечаем по своему: Новый год, День рождения, Пасха, рождение семьи и даже поход в бан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о больше всего я люблю Новый год и субботние вечера после бан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6" descr="D:\с диска с\Фотографии\Мамин юбилей 2010\P1010326.JPG"/>
          <p:cNvPicPr/>
          <p:nvPr/>
        </p:nvPicPr>
        <p:blipFill>
          <a:blip r:embed="rId1"/>
          <a:stretch/>
        </p:blipFill>
        <p:spPr>
          <a:xfrm>
            <a:off x="2214720" y="4125960"/>
            <a:ext cx="3643200" cy="27320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D:\с диска с\Фотографии\нераспечатаные фото\В печать\Юбилей 13.01.2010\фотки 035.jpg"/>
          <p:cNvPicPr/>
          <p:nvPr/>
        </p:nvPicPr>
        <p:blipFill>
          <a:blip r:embed="rId2"/>
          <a:stretch/>
        </p:blipFill>
        <p:spPr>
          <a:xfrm>
            <a:off x="428760" y="500040"/>
            <a:ext cx="3382920" cy="2535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D:\с диска с\Фотографии\нераспечатаные фото\В печать\День Рождения тети Светы2009\DSC03774.jpg"/>
          <p:cNvPicPr/>
          <p:nvPr/>
        </p:nvPicPr>
        <p:blipFill>
          <a:blip r:embed="rId3"/>
          <a:stretch/>
        </p:blipFill>
        <p:spPr>
          <a:xfrm>
            <a:off x="4071960" y="285840"/>
            <a:ext cx="3714840" cy="27860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D:\с диска с\Фотографии\Новый год 2011\НГ 2011\DSC02246.JPG"/>
          <p:cNvPicPr/>
          <p:nvPr/>
        </p:nvPicPr>
        <p:blipFill>
          <a:blip r:embed="rId4"/>
          <a:stretch/>
        </p:blipFill>
        <p:spPr>
          <a:xfrm>
            <a:off x="5357880" y="3071880"/>
            <a:ext cx="3786120" cy="28400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D:\с диска с\Фотографии\нераспечатаные фото\В печать\День Рождения тети Светы2009\DSC03780.jpg"/>
          <p:cNvPicPr/>
          <p:nvPr/>
        </p:nvPicPr>
        <p:blipFill>
          <a:blip r:embed="rId5"/>
          <a:stretch/>
        </p:blipFill>
        <p:spPr>
          <a:xfrm>
            <a:off x="0" y="3071880"/>
            <a:ext cx="2928960" cy="219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28760" y="571680"/>
            <a:ext cx="8229600" cy="96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Баня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2" name="Прямоугольник 3"/>
          <p:cNvSpPr/>
          <p:nvPr/>
        </p:nvSpPr>
        <p:spPr>
          <a:xfrm>
            <a:off x="0" y="3429000"/>
            <a:ext cx="5857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гда все помылись, все садятся за большой стол, полный вкусных блюд (бабушка по-другому не умеет). И уже когда все уселись, мы делимся своими новостями за прошедшую неделю, обсуждаем важные на сегодняшний день вопросы. А иногда (я очень люблю такие моменты) бабушка с дедушкой рассказывают забавные и веселые истории из своей молодости. Так было, когда мамины родители жили здесь. Потом они переехали в Красноярск и живут теперь там, но нашу традицию никто не забывает и каждую субботу мы собираемся вновь и вновь, чтобы хорошенько отмыться от городской грязи и душевно поболтать за общим стол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Box 4"/>
          <p:cNvSpPr/>
          <p:nvPr/>
        </p:nvSpPr>
        <p:spPr>
          <a:xfrm>
            <a:off x="3214800" y="1428840"/>
            <a:ext cx="5786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ход в баню в нашей семье – это как некий ритуал. Каждую субботу в любое время года дедушка топит баню, а бабушка готовит вкусный ужин. У нас даже есть своя очередность: сначала идут баба с дедом, потом идут все девочки нашей семьи, потом мы с сестрами уходим и приходит пап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2" descr="C:\Documents and Settings\Виктор\Рабочий стол\Настя)\разное\banya_news-6.jpeg"/>
          <p:cNvPicPr/>
          <p:nvPr/>
        </p:nvPicPr>
        <p:blipFill>
          <a:blip r:embed="rId1"/>
          <a:stretch/>
        </p:blipFill>
        <p:spPr>
          <a:xfrm>
            <a:off x="357120" y="1357200"/>
            <a:ext cx="2643120" cy="19814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C:\Documents and Settings\Виктор\Рабочий стол\Настя)\разное\138510.jpg.png"/>
          <p:cNvPicPr/>
          <p:nvPr/>
        </p:nvPicPr>
        <p:blipFill>
          <a:blip r:embed="rId2"/>
          <a:stretch/>
        </p:blipFill>
        <p:spPr>
          <a:xfrm>
            <a:off x="5762520" y="3571920"/>
            <a:ext cx="3381480" cy="253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8760" y="571680"/>
            <a:ext cx="8229600" cy="96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Новый год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7" name="TextBox 3"/>
          <p:cNvSpPr/>
          <p:nvPr/>
        </p:nvSpPr>
        <p:spPr>
          <a:xfrm>
            <a:off x="2357280" y="1428840"/>
            <a:ext cx="678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вый год для меня всегда был самым сказочным праздником из всех остальных, ведь в новый год всегда ждешь чуда и волшебства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20х числах декабря мы с мамой потихоньку начинаем украшать дом. Когда всевозможные гирлянды, шарики, снежинки развешаны по комнатам, можно приступать и к елке. Елку мы наряжаем всей семьей. У каждого есть свои обязанности: кто-то приносит игрушки, кто-то забирается наверх, чтобы что-либо повесить на верхушку елки, кто-то руководит работой. Вся подготовка к новому году идет в ощущении праздника, ведь вокруг все блестит, сияет – как будто светится изнутри теплым уютным огне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Box 4"/>
          <p:cNvSpPr/>
          <p:nvPr/>
        </p:nvSpPr>
        <p:spPr>
          <a:xfrm>
            <a:off x="0" y="427212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само торжество (31 декабря) у нас дома собирается вся наша большая семья. Приезжают родственники из Красноярска, Москвы, Казани и Вологды. Наш дом как магнит всех собирает в новогоднюю ночь. Встретив новый год с речью президента, бокалами шампанского все скорее бегут на улицу пускать фейерверки. Когда все заходят обратно домой, начинается процедура дарения подарков, которая длится примерно около часа. В конечном счете у каждого целая гора подарков и это очень здорово! Остальные посиделки за столом проходят в играх, шутках и различных шуточных конкурса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вый год как настоящая сказка, полная волшебства и чудес. Как для детей, так и для взрослых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2" descr="D:\с диска с\Фотографии\Новый год 2011\IMG_0295.JPG"/>
          <p:cNvPicPr/>
          <p:nvPr/>
        </p:nvPicPr>
        <p:blipFill>
          <a:blip r:embed="rId1"/>
          <a:stretch/>
        </p:blipFill>
        <p:spPr>
          <a:xfrm>
            <a:off x="0" y="1569960"/>
            <a:ext cx="2428920" cy="262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0000"/>
                </a:solidFill>
                <a:latin typeface="Times New Roman"/>
              </a:rPr>
              <a:t>Мнения о том, кто такие «сибиряки» не существует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-44604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ученные ответы опрошенных можно разделить на 5 основных позиций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-44604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Сибиряки – те, кто живет на территории Сибир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-44604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Сибиряки – люди, родившиеся и долго живущие в Сибири. ( Но не те, которых насильственно заставляли в Сибирь ехать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-44604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Сибиряки – это особый тип людей с характерными чертами (крепкие, здоровые ,добрые, трудолюбивы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-44604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Сибиряки- коренные, местные жители Сибири, живущие здесь изда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-44604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 Сибиряки – это «винегрет народов», «странный этнос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-44604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0000"/>
                </a:solidFill>
                <a:latin typeface="Times New Roman"/>
              </a:rPr>
              <a:t>Какие черты характера присущи сибирякам?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брота, доброжелательность (44,4% ответов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-4554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ла характера, духа (38,8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-4554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носливость (27,8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-4554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ужественность, стойкость (22,2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-4554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удолюбие ( 17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-4554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степриимство, радушие (16,6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-4554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зывчивость и щедрость ( 15,1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-4554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естность, справедливость (14 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-4554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лерантность, терпимость (13,5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-4554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триотизм (1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-4554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4"/>
          <p:cNvSpPr txBox="1"/>
          <p:nvPr/>
        </p:nvSpPr>
        <p:spPr>
          <a:xfrm>
            <a:off x="539640" y="2492280"/>
            <a:ext cx="8136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</a:rPr>
              <a:t>Старинные сибирские обряды и обыча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4"/>
          <p:cNvSpPr txBox="1"/>
          <p:nvPr/>
        </p:nvSpPr>
        <p:spPr>
          <a:xfrm>
            <a:off x="1357200" y="928800"/>
            <a:ext cx="17384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Times New Roman"/>
              </a:rPr>
              <a:t>Обряд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07" name="WordArt 5"/>
          <p:cNvSpPr txBox="1"/>
          <p:nvPr/>
        </p:nvSpPr>
        <p:spPr>
          <a:xfrm>
            <a:off x="5786280" y="928800"/>
            <a:ext cx="1667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Times New Roman"/>
              </a:rPr>
              <a:t>Обыча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08" name="Line 7"/>
          <p:cNvSpPr/>
          <p:nvPr/>
        </p:nvSpPr>
        <p:spPr>
          <a:xfrm>
            <a:off x="2214720" y="150012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8"/>
          <p:cNvSpPr/>
          <p:nvPr/>
        </p:nvSpPr>
        <p:spPr>
          <a:xfrm>
            <a:off x="6643800" y="150012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642960" y="2643120"/>
            <a:ext cx="33814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9900"/>
                </a:solidFill>
                <a:latin typeface="Times New Roman"/>
              </a:rPr>
              <a:t>Традиционные действия, сопровождающие важные моменты жизни и деятельности. Выполнение этих действий направлено на усиление переживания человек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4929120" y="2643120"/>
            <a:ext cx="331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9900"/>
                </a:solidFill>
                <a:latin typeface="Times New Roman"/>
              </a:rPr>
              <a:t>Традиционно установившееся правило поведения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Свадьб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Обряд российской свадьбы, родившийся в глубокой древности, был принесен в Сибирь, но, сохраняя главные сюжетные и структурные компоненты, претерпел определенные измен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ычаи свадьб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укобити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вичник(мальчишник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хищение невесты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ватовство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лагословления родителями невесты молодоже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Рождение</a:t>
            </a:r>
            <a:r>
              <a:rPr b="1" lang="ru-RU" sz="44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младенц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В отличии от «российских» обычаев(«беречь дитя от зглазу») в Сибири о рождении младенца извещали всех родственников, друзей, родител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ыча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дительницу непременно, если позволяло здоровье, водили в баню через день. Сибиряки говаривали: «Банька — вторая мать». После бани по­или взваром из ягод, из слабого пива с изюмом, черносливом, имбирем. Кормили родительницу кашей из цельного пшена с изюм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воду, в которой купали младенца клали серебряные монеты, которые потом брала себе бабка-повитух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ле 3-4 месяцев младенца начинали кормить коровьим молоком, которое вливали в рожо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2T00:58:19Z</dcterms:created>
  <dc:creator>1-7_4</dc:creator>
  <dc:description/>
  <dc:language>en-US</dc:language>
  <cp:lastModifiedBy>UserR</cp:lastModifiedBy>
  <dcterms:modified xsi:type="dcterms:W3CDTF">2024-12-17T09:25:29Z</dcterms:modified>
  <cp:revision>10</cp:revision>
  <dc:subject/>
  <dc:title>Слайд 1</dc:title>
</cp:coreProperties>
</file>